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856F-F7D0-4EAE-8A55-FAD1FEF79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93C4-1D96-4834-9583-C58E171DE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C64D-E445-498D-ADB5-497A18457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4EF1-7589-4817-8E60-D072E7278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537F-8F8F-4FE1-8B2F-C055CE443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AC81-AF05-4E55-BAA4-5D22F2FE7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441E-763E-46C9-906B-288CF19EB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6B8D-6532-4B02-9576-1933EC8CA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EFED-C79B-49E5-A0C8-65F79AE4A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871D-C5D9-4573-905A-1FB77971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CDAB-9C1E-4399-968A-AFA0BF09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04B2-37F1-4122-86DF-F5886925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00FE0-17C8-4CFA-84BB-1D43E08EA67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0560" y="1785600"/>
            <a:ext cx="8893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性别：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年龄：</a:t>
            </a:r>
            <a:r>
              <a:rPr b="1" lang="en-US" sz="1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国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毕业院校及学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海外工作机构及职务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海外主要工作经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214200" y="28584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英文名</a:t>
            </a:r>
            <a:r>
              <a:rPr b="1" lang="en-US" sz="3700" spc="-1" strike="noStrike">
                <a:solidFill>
                  <a:srgbClr val="0070c0"/>
                </a:solidFill>
                <a:latin typeface="宋体"/>
              </a:rPr>
              <a:t> </a:t>
            </a: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英文姓（中文姓名）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24000" y="3141720"/>
          <a:ext cx="8377200" cy="2278080"/>
        </p:xfrm>
        <a:graphic>
          <a:graphicData uri="http://schemas.openxmlformats.org/drawingml/2006/table">
            <a:tbl>
              <a:tblPr/>
              <a:tblGrid>
                <a:gridCol w="2687760"/>
                <a:gridCol w="768240"/>
                <a:gridCol w="457200"/>
                <a:gridCol w="766800"/>
                <a:gridCol w="647640"/>
                <a:gridCol w="144360"/>
                <a:gridCol w="2905200"/>
              </a:tblGrid>
              <a:tr h="277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职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时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国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单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09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8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01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44" name="TextBox 6"/>
          <p:cNvSpPr/>
          <p:nvPr/>
        </p:nvSpPr>
        <p:spPr>
          <a:xfrm>
            <a:off x="7000920" y="714240"/>
            <a:ext cx="1500120" cy="2014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428760" y="214200"/>
            <a:ext cx="550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附件四     评审演示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模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4"/>
          <p:cNvSpPr/>
          <p:nvPr/>
        </p:nvSpPr>
        <p:spPr>
          <a:xfrm>
            <a:off x="539640" y="1197000"/>
            <a:ext cx="727236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项目单位及拟任职务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专项特长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00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字以内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4"/>
          <p:cNvSpPr/>
          <p:nvPr/>
        </p:nvSpPr>
        <p:spPr>
          <a:xfrm>
            <a:off x="539640" y="155736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项目单位评价</a:t>
            </a:r>
            <a:r>
              <a:rPr b="1" lang="en-US" sz="1800" spc="-1" strike="noStrike">
                <a:solidFill>
                  <a:srgbClr val="cc3300"/>
                </a:solidFill>
                <a:latin typeface="黑体"/>
                <a:ea typeface="黑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350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字以内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8"/>
          <p:cNvSpPr/>
          <p:nvPr/>
        </p:nvSpPr>
        <p:spPr>
          <a:xfrm>
            <a:off x="920520" y="549360"/>
            <a:ext cx="13086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单位评价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4"/>
          <p:cNvSpPr/>
          <p:nvPr/>
        </p:nvSpPr>
        <p:spPr>
          <a:xfrm>
            <a:off x="539640" y="1700280"/>
            <a:ext cx="410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评审专家评价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539640" y="549360"/>
            <a:ext cx="21607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专家评价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8T01:36:42Z</dcterms:created>
  <dc:creator>Administrator</dc:creator>
  <dc:description/>
  <dc:language>en-US</dc:language>
  <cp:lastModifiedBy>User</cp:lastModifiedBy>
  <dcterms:modified xsi:type="dcterms:W3CDTF">2013-06-28T01:53:00Z</dcterms:modified>
  <cp:revision>1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